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CBA-649D-4334-A4DD-F6217742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8AB-DD11-4D3B-BE36-238D6EB1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453-E54C-41B0-B0E9-48C88151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FB4-0442-4E4A-BA82-C81E7924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025-1184-423E-97A8-F6407BF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834-F36E-4953-B37E-F67FA789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7EC-B1BC-492D-B906-2BA81491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A83-92DF-4859-A00A-8093F30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F39-78D3-4BCE-844A-A4ABA382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4D7-737C-4D77-9B9E-DF2B2B04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ADF-D643-4096-BCD6-3D5EBCA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167-65B2-4ABC-A7FE-778307C3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BEA7-B94C-45F9-BF87-F32E2AFAA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uo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uo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uo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uo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uo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uo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uo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uo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uo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uo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uo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9:40:55Z</dcterms:created>
  <dc:creator>fabio.medessi</dc:creator>
  <dc:description/>
  <dc:language>en-US</dc:language>
  <cp:lastModifiedBy>fabio.medessi</cp:lastModifiedBy>
  <dcterms:modified xsi:type="dcterms:W3CDTF">2010-08-10T10:01:10Z</dcterms:modified>
  <cp:revision>3</cp:revision>
  <dc:subject/>
  <dc:title>Presentazione di PowerPoint</dc:title>
</cp:coreProperties>
</file>